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7.wmf" ContentType="image/x-wmf"/>
  <Override PartName="/ppt/media/image14.gif" ContentType="image/gif"/>
  <Override PartName="/ppt/media/image13.png" ContentType="image/png"/>
  <Override PartName="/ppt/media/image1.jpeg" ContentType="image/jpeg"/>
  <Override PartName="/ppt/media/CAMERA.WAV" ContentType="audio/x-wav"/>
  <Override PartName="/ppt/media/image6.jpeg" ContentType="image/jpeg"/>
  <Override PartName="/ppt/media/image10.png" ContentType="image/png"/>
  <Override PartName="/ppt/media/image2.jpeg" ContentType="image/jpeg"/>
  <Override PartName="/ppt/media/image3.wmf" ContentType="image/x-wmf"/>
  <Override PartName="/ppt/media/image4.png" ContentType="image/png"/>
  <Override PartName="/ppt/media/image9.png" ContentType="image/png"/>
  <Override PartName="/ppt/media/image8.png" ContentType="image/png"/>
  <Override PartName="/ppt/media/image5.gif" ContentType="image/gif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082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90BA4-2829-4239-8A13-99114206B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253C0-8ECA-41BA-8A08-A4F8F8943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CD42E-9FD4-42FB-8E6A-5D69B75EB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8F9EC-7C02-4064-802D-6031D4121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DC493-9FAD-437C-B183-569B55589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F9885-5CD0-467D-9D71-69E272244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10653-9818-49DA-B368-263873E79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3695D-71AF-4A67-959C-967E8D1F3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ACE83-8096-4B02-B974-D440F07FC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E6EC4-D654-468E-876F-168BA142A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60614-A281-4A07-B407-F36E23DA1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5AEB2-2329-4B24-8A54-A5B872ADB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A2504-A43D-4925-B02B-B48BB1BFDA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80972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0" y="1752480"/>
            <a:ext cx="9144000" cy="180972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0" y="3200400"/>
            <a:ext cx="9144000" cy="18288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5"/>
          <a:stretch/>
        </p:blipFill>
        <p:spPr>
          <a:xfrm>
            <a:off x="0" y="5029200"/>
            <a:ext cx="9144000" cy="182880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974880" y="6289560"/>
            <a:ext cx="2301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422280" y="6389640"/>
            <a:ext cx="184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Script MT Bold"/>
              </a:rPr>
              <a:t>Physics I Hon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6.jpeg"/><Relationship Id="rId3" Type="http://schemas.openxmlformats.org/officeDocument/2006/relationships/image" Target="../media/image7.wmf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6.jpeg"/><Relationship Id="rId3" Type="http://schemas.openxmlformats.org/officeDocument/2006/relationships/image" Target="../media/image7.wmf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8000"/>
                </a:solidFill>
                <a:latin typeface="Script MT Bold"/>
              </a:rPr>
              <a:t>Waves and Sound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n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ppler Eff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2A111-7FEC-4DA5-B0B7-1597D88AA46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imes New Roman"/>
              </a:rPr>
              <a:t>Human Perception of Sou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80880" y="1066680"/>
            <a:ext cx="556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743200" y="990720"/>
            <a:ext cx="4294080" cy="5600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26C50-5C3F-4701-B0D9-E2159D7A634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Sound Interfer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verlapping compressions of a sound wave will result in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tructive interfere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a louder soun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verlapping a compression and a rarefaction results in..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tructive interfere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a softer soun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BF8B0-B9CD-4B03-9F34-DFE638FE0C7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5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0" dur="5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5" dur="5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0" dur="500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5" dur="500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0" dur="500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The Compression Wa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rcRect l="2943" t="0" r="7842" b="0"/>
          <a:stretch/>
        </p:blipFill>
        <p:spPr>
          <a:xfrm>
            <a:off x="914400" y="2765520"/>
            <a:ext cx="7848720" cy="2279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1AA4D-2A62-47A8-8BF0-DB0D38B9D11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imes New Roman"/>
              </a:rPr>
              <a:t>The Doppler Eff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33160" y="838080"/>
            <a:ext cx="8458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The observed frequency of sound changes if there is relative motion between the the observer and the source of the sound wave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Example:  If a train is moving away from you, the pitch of the whistle is lower than when it comes toward you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914400" y="4343400"/>
                <a:ext cx="2627280" cy="122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v</m:t>
                            </m:r>
                            <m:r>
                              <m:t xml:space="preserve">±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v</m:t>
                            </m:r>
                            <m:r>
                              <m:t xml:space="preserve">∓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5" name=""/>
          <p:cNvSpPr/>
          <p:nvPr/>
        </p:nvSpPr>
        <p:spPr>
          <a:xfrm>
            <a:off x="5486400" y="3809880"/>
            <a:ext cx="3429000" cy="182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’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observed frequency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 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mitted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observer speed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source spe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wave spe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33520" y="594360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means that the source is mov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wa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rom the ob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33520" y="3276720"/>
            <a:ext cx="4724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means that the observer is mov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war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rom the 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743200" y="55627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743200" y="411480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7010280" y="1066680"/>
            <a:ext cx="1766880" cy="1549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8F1DA-795E-45CA-980A-FBA0246C304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tionary Source and Observ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62120" y="4952880"/>
            <a:ext cx="8076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791320" y="4267080"/>
            <a:ext cx="488880" cy="6858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1295280" y="4221000"/>
            <a:ext cx="1067040" cy="7034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1295280" y="4038480"/>
            <a:ext cx="1067040" cy="1067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92000" y="3600360"/>
            <a:ext cx="207180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22200" y="3090960"/>
            <a:ext cx="3011400" cy="2962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-195120" y="2581200"/>
            <a:ext cx="4047840" cy="3981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-666720" y="2117880"/>
            <a:ext cx="4989600" cy="49082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-1136520" y="1562040"/>
            <a:ext cx="5929200" cy="6019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-1654200" y="1100160"/>
            <a:ext cx="6964560" cy="6943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-2171880" y="636480"/>
            <a:ext cx="8001360" cy="7871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143000" y="3657600"/>
            <a:ext cx="1676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quency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248520" y="3505320"/>
            <a:ext cx="22096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quency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775480" y="15606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886200" y="4343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100760" y="3693960"/>
            <a:ext cx="121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=340m/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248520" y="1523880"/>
            <a:ext cx="160020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40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 = f</a:t>
            </a:r>
            <a:r>
              <a:rPr b="0" i="1" lang="en-US" sz="40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9FB25-7F15-44AB-89A9-F9A0E49003C9}" type="slidenum">
              <a:t>14</a:t>
            </a:fld>
          </a:p>
        </p:txBody>
      </p:sp>
    </p:spTree>
  </p:cSld>
  <p:transition>
    <p:fade thruBlk="true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500"/>
                            </p:stCondLst>
                            <p:childTnLst>
                              <p:par>
                                <p:cTn id="1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urce and Observer Moving Togeth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3352680" y="4267080"/>
            <a:ext cx="1067040" cy="7034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7162920" y="4191120"/>
            <a:ext cx="488880" cy="6858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1066680" y="4952880"/>
            <a:ext cx="6858000" cy="0"/>
          </a:xfrm>
          <a:prstGeom prst="line">
            <a:avLst/>
          </a:prstGeom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3962520" y="4267080"/>
            <a:ext cx="1066680" cy="7034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4572000" y="4267080"/>
            <a:ext cx="1066680" cy="70344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762120" y="1752480"/>
            <a:ext cx="6476760" cy="5105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295280" y="2286000"/>
            <a:ext cx="5867640" cy="4038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752480" y="2514600"/>
            <a:ext cx="5334120" cy="3581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38480" y="4952880"/>
            <a:ext cx="0" cy="2286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648320" y="4952880"/>
            <a:ext cx="0" cy="2286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334120" y="4952880"/>
            <a:ext cx="0" cy="2286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7200" y="1219320"/>
            <a:ext cx="2819520" cy="5638680"/>
          </a:xfrm>
          <a:prstGeom prst="rect">
            <a:avLst/>
          </a:prstGeom>
          <a:solidFill>
            <a:srgbClr val="ffe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914400" y="3276720"/>
            <a:ext cx="20574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&gt; f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A0B25-50ED-45BC-81C7-02D5BBBE878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65" dur="1" fill="hold">
                                    <p:stCondLst>
                                      <p:cond evt="end">
                                        <p:tn val="161"/>
                                      </p:cond>
                                    </p:stCondLst>
                                  </p:cTn>
                                  <p:tgtEl>
                                    <p:spTgt spid="10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500"/>
                            </p:stCondLst>
                            <p:childTnLst>
                              <p:par>
                                <p:cTn id="1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82" dur="1" fill="hold">
                                    <p:stCondLst>
                                      <p:cond evt="end">
                                        <p:tn val="178"/>
                                      </p:cond>
                                    </p:stCondLst>
                                  </p:cTn>
                                  <p:tgtEl>
                                    <p:spTgt spid="10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500"/>
                            </p:stCondLst>
                            <p:childTnLst>
                              <p:par>
                                <p:cTn id="1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1500"/>
                            </p:stCondLst>
                            <p:childTnLst>
                              <p:par>
                                <p:cTn id="2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urce and Observer Moving Apar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352680" y="4267080"/>
            <a:ext cx="1067040" cy="7034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1066680" y="4114800"/>
            <a:ext cx="489240" cy="6858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066680" y="4952880"/>
            <a:ext cx="6858000" cy="0"/>
          </a:xfrm>
          <a:prstGeom prst="line">
            <a:avLst/>
          </a:prstGeom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4114800" y="4267080"/>
            <a:ext cx="1066680" cy="7034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4800600" y="4267080"/>
            <a:ext cx="1066680" cy="7034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676520" y="1752480"/>
            <a:ext cx="6933960" cy="5105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743200" y="2286000"/>
            <a:ext cx="5486400" cy="4038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191120" y="2514600"/>
            <a:ext cx="4114800" cy="3581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038480" y="4952880"/>
            <a:ext cx="0" cy="2286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800600" y="4952880"/>
            <a:ext cx="0" cy="2286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562720" y="4952880"/>
            <a:ext cx="0" cy="2286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867280" y="1676520"/>
            <a:ext cx="2819520" cy="5181480"/>
          </a:xfrm>
          <a:prstGeom prst="rect">
            <a:avLst/>
          </a:prstGeom>
          <a:solidFill>
            <a:srgbClr val="ffe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400800" y="5562720"/>
            <a:ext cx="20574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&lt; f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7E559-9B8F-40DA-976C-56BFD7AF1DC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500"/>
                            </p:stCondLst>
                            <p:childTnLst>
                              <p:par>
                                <p:cTn id="2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1000"/>
                            </p:stCondLst>
                            <p:childTnLst>
                              <p:par>
                                <p:cTn id="2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34" dur="1" fill="hold">
                                    <p:stCondLst>
                                      <p:cond evt="end">
                                        <p:tn val="230"/>
                                      </p:cond>
                                    </p:stCondLst>
                                  </p:cTn>
                                  <p:tgtEl>
                                    <p:spTgt spid="11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500"/>
                            </p:stCondLst>
                            <p:childTnLst>
                              <p:par>
                                <p:cTn id="24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51" dur="1" fill="hold">
                                    <p:stCondLst>
                                      <p:cond evt="end">
                                        <p:tn val="247"/>
                                      </p:cond>
                                    </p:stCondLst>
                                  </p:cTn>
                                  <p:tgtEl>
                                    <p:spTgt spid="11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500"/>
                            </p:stCondLst>
                            <p:childTnLst>
                              <p:par>
                                <p:cTn id="2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1000"/>
                            </p:stCondLst>
                            <p:childTnLst>
                              <p:par>
                                <p:cTn id="26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1500"/>
                            </p:stCondLst>
                            <p:childTnLst>
                              <p:par>
                                <p:cTn id="26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imes New Roman"/>
              </a:rPr>
              <a:t>The Doppler Eff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source and/or detector are moving towar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ach oth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tance between waves decrea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Frequency seems to in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source and/or detector are moving awa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rom each oth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tance between waves increa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Frequency seems to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971800" y="5334120"/>
            <a:ext cx="1066680" cy="70308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6324480" y="5334120"/>
            <a:ext cx="489240" cy="685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70978-5948-4382-B150-427A7755224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9980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Doppl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62120" y="1031760"/>
            <a:ext cx="8153280" cy="376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You are driving along the highway at 65 mph, and behind you a police car, also traveling at 65 mph, has its siren turned 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You and the police car have both pulled over to the side of the road, but the siren is still turned 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which case does the frequency of the siren seem higher to you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1. Case 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2. Case 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3. s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200400" y="3886200"/>
            <a:ext cx="4418280" cy="2265120"/>
            <a:chOff x="3200400" y="3886200"/>
            <a:chExt cx="4418280" cy="2265120"/>
          </a:xfrm>
        </p:grpSpPr>
        <p:grpSp>
          <p:nvGrpSpPr>
            <p:cNvPr id="135" name=""/>
            <p:cNvGrpSpPr/>
            <p:nvPr/>
          </p:nvGrpSpPr>
          <p:grpSpPr>
            <a:xfrm>
              <a:off x="3200400" y="3886200"/>
              <a:ext cx="4418280" cy="2265120"/>
              <a:chOff x="3200400" y="3886200"/>
              <a:chExt cx="4418280" cy="2265120"/>
            </a:xfrm>
          </p:grpSpPr>
          <p:grpSp>
            <p:nvGrpSpPr>
              <p:cNvPr id="136" name=""/>
              <p:cNvGrpSpPr/>
              <p:nvPr/>
            </p:nvGrpSpPr>
            <p:grpSpPr>
              <a:xfrm>
                <a:off x="3200400" y="3886200"/>
                <a:ext cx="1384920" cy="2265120"/>
                <a:chOff x="3200400" y="3886200"/>
                <a:chExt cx="1384920" cy="2265120"/>
              </a:xfrm>
            </p:grpSpPr>
            <p:sp>
              <p:nvSpPr>
                <p:cNvPr id="137" name=""/>
                <p:cNvSpPr/>
                <p:nvPr/>
              </p:nvSpPr>
              <p:spPr>
                <a:xfrm>
                  <a:off x="3286440" y="5198760"/>
                  <a:ext cx="173520" cy="218520"/>
                </a:xfrm>
                <a:prstGeom prst="ellipse">
                  <a:avLst/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806280" y="5198760"/>
                  <a:ext cx="173520" cy="218520"/>
                </a:xfrm>
                <a:prstGeom prst="ellipse">
                  <a:avLst/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 flipV="1">
                  <a:off x="3286440" y="4979520"/>
                  <a:ext cx="693360" cy="218520"/>
                </a:xfrm>
                <a:custGeom>
                  <a:avLst/>
                  <a:gdLst>
                    <a:gd name="textAreaLeft" fmla="*/ 102240 w 693360"/>
                    <a:gd name="textAreaRight" fmla="*/ 591120 w 693360"/>
                    <a:gd name="textAreaTop" fmla="*/ 32040 h 218520"/>
                    <a:gd name="textAreaBottom" fmla="*/ 186480 h 2185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013" y="21600"/>
                      </a:lnTo>
                      <a:lnTo>
                        <a:pt x="2587" y="21600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459960" y="4761000"/>
                  <a:ext cx="86040" cy="109440"/>
                </a:xfrm>
                <a:prstGeom prst="ellipse">
                  <a:avLst/>
                </a:prstGeom>
                <a:solidFill>
                  <a:srgbClr val="ff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3200400" y="5745600"/>
                  <a:ext cx="11257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3459960" y="5745600"/>
                  <a:ext cx="77940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9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v</a:t>
                  </a:r>
                  <a:r>
                    <a:rPr b="0" lang="en-US" sz="2000" spc="-1" strike="noStrike" baseline="-25000">
                      <a:solidFill>
                        <a:srgbClr val="000000"/>
                      </a:solidFill>
                      <a:latin typeface="Comic Sans MS"/>
                    </a:rPr>
                    <a:t>s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V="1">
                  <a:off x="3373200" y="4870440"/>
                  <a:ext cx="432720" cy="109440"/>
                </a:xfrm>
                <a:custGeom>
                  <a:avLst/>
                  <a:gdLst>
                    <a:gd name="textAreaLeft" fmla="*/ 63720 w 432720"/>
                    <a:gd name="textAreaRight" fmla="*/ 369000 w 432720"/>
                    <a:gd name="textAreaTop" fmla="*/ 16200 h 109440"/>
                    <a:gd name="textAreaBottom" fmla="*/ 93240 h 1094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013" y="21600"/>
                      </a:lnTo>
                      <a:lnTo>
                        <a:pt x="2587" y="2160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240" bIns="3024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3633120" y="4761000"/>
                  <a:ext cx="86760" cy="109440"/>
                </a:xfrm>
                <a:prstGeom prst="ellipse">
                  <a:avLst/>
                </a:prstGeom>
                <a:solidFill>
                  <a:srgbClr val="ff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4153680" y="4500720"/>
                  <a:ext cx="171720" cy="7801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5676" y="1163"/>
                      </a:moveTo>
                      <a:arcTo wR="10800" hR="10800" stAng="-3789718" swAng="69176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5676" y="1163"/>
                      </a:moveTo>
                      <a:arcTo wR="10800" hR="10800" stAng="-3789718" swAng="6917600"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4239360" y="4500720"/>
                  <a:ext cx="173160" cy="7801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5676" y="1163"/>
                      </a:moveTo>
                      <a:arcTo wR="10800" hR="10800" stAng="-3789718" swAng="69176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5676" y="1163"/>
                      </a:moveTo>
                      <a:arcTo wR="10800" hR="10800" stAng="-3789718" swAng="6917600"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4326120" y="4500720"/>
                  <a:ext cx="173160" cy="7801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5676" y="1163"/>
                      </a:moveTo>
                      <a:arcTo wR="10800" hR="10800" stAng="-3789718" swAng="69176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5676" y="1163"/>
                      </a:moveTo>
                      <a:arcTo wR="10800" hR="10800" stAng="-3789718" swAng="6917600"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4413600" y="4500720"/>
                  <a:ext cx="171720" cy="7801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5676" y="1163"/>
                      </a:moveTo>
                      <a:arcTo wR="10800" hR="10800" stAng="-3789718" swAng="69176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5676" y="1163"/>
                      </a:moveTo>
                      <a:arcTo wR="10800" hR="10800" stAng="-3789718" swAng="6917600"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4240800" y="3886200"/>
                  <a:ext cx="244800" cy="34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90000"/>
                    </a:lnSpc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f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6059520" y="3886200"/>
                <a:ext cx="1559160" cy="2265120"/>
                <a:chOff x="6059520" y="3886200"/>
                <a:chExt cx="1559160" cy="226512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6752520" y="5308200"/>
                  <a:ext cx="172800" cy="218520"/>
                </a:xfrm>
                <a:prstGeom prst="ellipse">
                  <a:avLst/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099200" y="5308200"/>
                  <a:ext cx="172800" cy="218520"/>
                </a:xfrm>
                <a:prstGeom prst="ellipse">
                  <a:avLst/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 flipV="1">
                  <a:off x="6665760" y="5089320"/>
                  <a:ext cx="693000" cy="218880"/>
                </a:xfrm>
                <a:custGeom>
                  <a:avLst/>
                  <a:gdLst>
                    <a:gd name="textAreaLeft" fmla="*/ 56160 w 693000"/>
                    <a:gd name="textAreaRight" fmla="*/ 636840 w 693000"/>
                    <a:gd name="textAreaTop" fmla="*/ 17640 h 218880"/>
                    <a:gd name="textAreaBottom" fmla="*/ 201240 h 2188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216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6492600" y="5745600"/>
                  <a:ext cx="11260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6752520" y="5745600"/>
                  <a:ext cx="77940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9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v</a:t>
                  </a:r>
                  <a:r>
                    <a:rPr b="0" lang="en-US" sz="2000" spc="-1" strike="noStrike" baseline="-25000">
                      <a:solidFill>
                        <a:srgbClr val="000000"/>
                      </a:solidFill>
                      <a:latin typeface="Comic Sans MS"/>
                    </a:rPr>
                    <a:t>o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flipV="1">
                  <a:off x="6752520" y="4869720"/>
                  <a:ext cx="432720" cy="218520"/>
                </a:xfrm>
                <a:custGeom>
                  <a:avLst/>
                  <a:gdLst>
                    <a:gd name="textAreaLeft" fmla="*/ 63720 w 432720"/>
                    <a:gd name="textAreaRight" fmla="*/ 369000 w 432720"/>
                    <a:gd name="textAreaTop" fmla="*/ 32040 h 218520"/>
                    <a:gd name="textAreaBottom" fmla="*/ 186480 h 2185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013" y="21600"/>
                      </a:lnTo>
                      <a:lnTo>
                        <a:pt x="2587" y="2160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6059520" y="4500720"/>
                  <a:ext cx="173160" cy="7801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5676" y="1163"/>
                      </a:moveTo>
                      <a:arcTo wR="10800" hR="10800" stAng="-3789718" swAng="69176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5676" y="1163"/>
                      </a:moveTo>
                      <a:arcTo wR="10800" hR="10800" stAng="-3789718" swAng="6917600"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6146280" y="4500720"/>
                  <a:ext cx="173160" cy="7801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5676" y="1163"/>
                      </a:moveTo>
                      <a:arcTo wR="10800" hR="10800" stAng="-3789718" swAng="69176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5676" y="1163"/>
                      </a:moveTo>
                      <a:arcTo wR="10800" hR="10800" stAng="-3789718" swAng="6917600"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6233760" y="4500720"/>
                  <a:ext cx="171720" cy="7801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5676" y="1163"/>
                      </a:moveTo>
                      <a:arcTo wR="10800" hR="10800" stAng="-3789718" swAng="69176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5676" y="1163"/>
                      </a:moveTo>
                      <a:arcTo wR="10800" hR="10800" stAng="-3789718" swAng="6917600"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6319080" y="4500720"/>
                  <a:ext cx="173160" cy="7801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5676" y="1163"/>
                      </a:moveTo>
                      <a:arcTo wR="10800" hR="10800" stAng="-3789718" swAng="69176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5676" y="1163"/>
                      </a:moveTo>
                      <a:arcTo wR="10800" hR="10800" stAng="-3789718" swAng="6917600"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146280" y="3886200"/>
                  <a:ext cx="541440" cy="34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90000"/>
                    </a:lnSpc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f’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62" name=""/>
            <p:cNvSpPr/>
            <p:nvPr/>
          </p:nvSpPr>
          <p:spPr>
            <a:xfrm>
              <a:off x="4240080" y="4870800"/>
              <a:ext cx="519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46280" y="4870800"/>
              <a:ext cx="519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587480" y="4323960"/>
              <a:ext cx="28296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th moving = how many combination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ft le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ft r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ight r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ight le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C3761-762A-4830-ABC4-0E6183DFD6E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ck 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Radio station Kiss broadcasts at 104.5MHz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wavelength does this requir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Kinky Kyle watches waves go by his dock and notices that 12 crests pass the same spot every minute, and that the crests are 6 meters apart. What is the speed of these wav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F0050-7367-4588-8D04-FBD4B1DFDAD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8000"/>
                </a:solidFill>
                <a:latin typeface="Script MT Bold"/>
              </a:rPr>
              <a:t>Waves and Sound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on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a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5A7C6-88D7-4276-8722-4C69FBA9A8D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Resonanc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 result of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forced vibration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 a body when the applied frequency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..matches th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natural frequenc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the bod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standing wave is established, the amplitudes adding together until the pressure is adequate for humans to hea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resulting vibration has 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high amplitud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could destroy the body that is vibrat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6A850-124A-4951-852D-48EE76A47C1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Natural Frequency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90720" y="13716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frequency at which an elastic object naturally tends to vibrate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 this frequency, 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inimum energ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required to produce a forced vibratio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natural frequency of a body depends on its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tic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a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9D83A-6BEC-4A4F-BB7E-E3D57E462BA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1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6" dur="5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1" dur="500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6" dur="500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1" dur="500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6" dur="500"/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Standing Wa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294920" y="1904760"/>
            <a:ext cx="71629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distance between adjacent antinodes is </a:t>
            </a:r>
            <a:r>
              <a:rPr b="0" i="1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/2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The distance between adjacent nodes is </a:t>
            </a:r>
            <a:r>
              <a:rPr b="0" i="1" lang="el-GR" sz="2800" spc="-1" strike="noStrike">
                <a:solidFill>
                  <a:srgbClr val="000000"/>
                </a:solidFill>
                <a:latin typeface="Arial"/>
              </a:rPr>
              <a:t>λ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/2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distance between a node an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 adjacent antinode is </a:t>
            </a:r>
            <a:r>
              <a:rPr b="0" i="1" lang="el-GR" sz="2800" spc="-1" strike="noStrike">
                <a:solidFill>
                  <a:srgbClr val="000000"/>
                </a:solidFill>
                <a:latin typeface="Arial"/>
              </a:rPr>
              <a:t>λ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/4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8B85F-9F10-42A0-865C-CD1DCF20D86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Examples of Resonanc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ss on a spring at reson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inging your legs in a sw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reaking a wine glass using sou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singing rod caused by forced vibr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tuning fork exciting a guitar st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truck driving on a rough ro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1940, the Tacoma Narrows Bridge was destroyed by wind-generated resona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31905-E759-4F96-9EB2-065041EDCE3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3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8" dur="5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3" dur="5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8" dur="500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3" dur="500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8" dur="500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3" dur="500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Open Pipe Resonators</a:t>
            </a:r>
            <a:br>
              <a:rPr sz="3200"/>
            </a:b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Fundament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wo antinodes and one nod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2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 = ½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rcRect l="0" t="18999" r="0" b="0"/>
          <a:stretch/>
        </p:blipFill>
        <p:spPr>
          <a:xfrm>
            <a:off x="685800" y="3962520"/>
            <a:ext cx="7772400" cy="1590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CC7B6-FE03-45D0-8E26-769F999477C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Open Pipe Resonators</a:t>
            </a:r>
            <a:br>
              <a:rPr sz="3200"/>
            </a:b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Second Harmon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752480" y="1752480"/>
            <a:ext cx="5257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wo nodes and three antinod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22216" r="0" b="0"/>
          <a:stretch/>
        </p:blipFill>
        <p:spPr>
          <a:xfrm>
            <a:off x="838080" y="4038480"/>
            <a:ext cx="7696440" cy="1600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9ADBF-17C1-4B3C-A487-071F0BB5B03F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Open Pipe Resonators</a:t>
            </a:r>
            <a:br>
              <a:rPr sz="3200"/>
            </a:b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Third Harmon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752480" y="1752480"/>
            <a:ext cx="5257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ree nodes and four antinod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2L/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 = 3/2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23085" r="0" b="0"/>
          <a:stretch/>
        </p:blipFill>
        <p:spPr>
          <a:xfrm>
            <a:off x="838080" y="4191120"/>
            <a:ext cx="7696440" cy="1523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A0C16-331B-4F5E-9D31-915912F8DB36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Closed Pipe Resonators</a:t>
            </a:r>
            <a:br>
              <a:rPr sz="3200"/>
            </a:b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Fundament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ne node and one antinod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 =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/4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rcRect l="0" t="19266" r="0" b="0"/>
          <a:stretch/>
        </p:blipFill>
        <p:spPr>
          <a:xfrm>
            <a:off x="838080" y="3581280"/>
            <a:ext cx="7620120" cy="1600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27BAC-5235-411A-9CAB-23746A0F0FC2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Closed Pipe Resonators</a:t>
            </a:r>
            <a:br>
              <a:rPr sz="3200"/>
            </a:b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Third Harmon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 = 3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/4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rcRect l="0" t="19233" r="0" b="0"/>
          <a:stretch/>
        </p:blipFill>
        <p:spPr>
          <a:xfrm>
            <a:off x="838080" y="3733920"/>
            <a:ext cx="7696440" cy="1600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322B3-5746-4737-8496-F85B7900A070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sw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 Given f = 104.5 MHz.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dio waves are _______ waves so they travel at _________ m/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ven f and v, we find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y using t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 equ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D5E8B-4970-41AC-802E-4056A5FF306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Closed Pipe Resonators</a:t>
            </a:r>
            <a:br>
              <a:rPr sz="3200"/>
            </a:b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Fifth Harmon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 = 5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/4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rcRect l="0" t="19222" r="0" b="0"/>
          <a:stretch/>
        </p:blipFill>
        <p:spPr>
          <a:xfrm>
            <a:off x="1066680" y="3505320"/>
            <a:ext cx="7696440" cy="1600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DD989-91E8-41C0-83D4-10503EE76DFA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Bea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aves of slightly different frequencies form a pattern of alternating maximum and minimum amplitud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ackets of maximum amplitude are called bea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4419720" y="1676520"/>
            <a:ext cx="4363920" cy="4800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89153-9095-43F9-B425-9F8500C53992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Bea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en two sound sources that have almost the same frequency are sounded together you hear a sound with a frequency that is the average of the two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variation in the amplitude between these two sounds is called a bea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beats frequency is simply the difference between the two frequenc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AD41A-6CA8-4433-9A1B-F3F62D71A899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Bea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Bea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 the periodic variation in loudness of two sounds played toge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umans can distinguish beat frequencies of seven or l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beat frequenc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equal to the difference in the frequency of the two soun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is the beat frequency when a 262 Hz and a 266 Hz tuning fork are sounded togethe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23598-7C0F-48B5-A9F8-319074ABA812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 = f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v/f = 3 x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 104.5 x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= 2.87 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01354-304A-4699-AC9B-63AF6ED33CF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wavelength is ___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equency is ____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 =  f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 =  12 /min = 0.2/se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 = 0.2 x 6  = 1.2 m/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E29E3-F4D5-432C-AB7D-F3C5A353B32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und Wave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838080" y="1141560"/>
            <a:ext cx="7623360" cy="5716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E7E94-EC31-4948-AEE3-CF7F7985061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imes New Roman"/>
              </a:rPr>
              <a:t>Sou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23720" y="1014120"/>
            <a:ext cx="8229600" cy="55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The speed of sound in air is 343 m/s at standard temperature and pressure.  It increases with increasing temperatu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The speed of sound in solids is greater than in gasses.  It is greater for stiffer material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Sound waves originate from vibrating object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Audible:</a:t>
            </a: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0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20,000 H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Infrasonic:</a:t>
            </a: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 20 H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Ultrasonic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 20 kH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The </a:t>
            </a: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pitch</a:t>
            </a: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 of a sound wave is determined by the frequency of the soun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B0E84-ED04-47E4-BF7D-917F8F9A202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imes New Roman"/>
              </a:rPr>
              <a:t>Sound Intens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Sound waves carry energy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ntensity </a:t>
            </a: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s defin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as the rate at which energy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 flows through a unit area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 perpendicular to the direction of travel of the wa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All waves have intensity defined in this w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Intensity is proportional to square of wave amplitude (remember energy in oscillator is square of velocity and square of displacement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36FF8-46E5-442E-8A9A-DD571FB0187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imes New Roman"/>
              </a:rPr>
              <a:t>Human Perception of Sou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The loudness of a sound depends on its intensity.  A sound perceived as roughly twice as loud as another actually has an intensity that is 10 times greate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We measure loudness by a logarithmic scale of the intensity level of a wave: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number is dimensionless but we give it a name, decibels (dB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dB is a factor 2 change in intens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ry 10dB is a factor 10 change in intens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 dB is a factor 100 change in intens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1FC04-BDD2-4843-947C-C295ED0A6E2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24T21:13:56Z</dcterms:created>
  <dc:creator>Division of Technology</dc:creator>
  <dc:description/>
  <dc:language>en-US</dc:language>
  <cp:lastModifiedBy>DCPS</cp:lastModifiedBy>
  <dcterms:modified xsi:type="dcterms:W3CDTF">2008-02-26T13:04:56Z</dcterms:modified>
  <cp:revision>61</cp:revision>
  <dc:subject/>
  <dc:title>Waves and Sound</dc:title>
</cp:coreProperties>
</file>